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2A6D-348A-46F6-8625-8F321307D1C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229-8C6F-4C42-BB83-5D8395CFF1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02F-5031-4800-8C96-DD06800C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F45-0D66-4B7F-8A16-4B1C3EE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935-DCEA-48F6-9AA2-7FE04A86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DAA-DC6E-4F3B-9AB3-E9E11A5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229-86A5-4A8D-BC40-9C4FD7C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DF98-F6EC-4A9D-B4D4-3E360759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7A8A-3B4E-4EC9-A183-8688908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E16-7008-4C25-BB17-F2A3AE7C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755-E31A-41D2-BD45-1A140BF4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260-3407-462B-A149-F58ED5C9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0CF-CAA9-419A-A5F3-8D0AEAF6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BBE-FE78-4F51-8B1F-6F30595C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D529-CB76-4ADD-B412-3DAA436A638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vimeo.com/2073568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836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6300720" y="220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cuencia didác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6:07Z</dcterms:created>
  <dc:creator>Mari</dc:creator>
  <dc:description/>
  <dc:language>en-US</dc:language>
  <cp:lastModifiedBy>Mari</cp:lastModifiedBy>
  <dcterms:modified xsi:type="dcterms:W3CDTF">2015-04-21T19:22:15Z</dcterms:modified>
  <cp:revision>1</cp:revision>
  <dc:subject/>
  <dc:title>Diapositiva 1</dc:title>
</cp:coreProperties>
</file>